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C25-5E9A-4D9E-8BCE-1DCDA9FA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7EB-8208-4624-8309-83A0A248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458-90CC-41D8-8D8B-4887A7DF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E8A-4DB1-4C0E-B3D4-09D18BE6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C229-4F1E-4A75-9218-F6E40198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5BD6-C079-4B20-A048-86A556F3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F378-0DC1-4047-A12A-084D3EB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2A05-AEEF-499D-9E66-DE3D56CD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8E88-4EC8-4C80-A1BA-4F805735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3375-E834-4648-98BF-B7BA2DE9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E43D-0FF3-417D-A4C0-7D0A8A8F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FB9-A612-426B-B0B6-DF91A76A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E78F-3999-405F-B39F-77098595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5F54-9AD0-4EFD-B30E-098E5EF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FBBD-C8AF-4899-8A7F-E31F8C48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537C-72D6-4347-8742-4C4252C1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C4E5-DB3D-446F-B6AF-45FAB6CE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D37-170C-4B60-A19D-5904B228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6E6-5D7E-4011-8098-A1F7299D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0CE-25B3-44B4-A1E8-A225DE39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39B-F968-4EFA-8E91-C2BD76FB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22F-DEE7-4F30-9D64-28CC9CAF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5A9-4B28-45FF-B28F-DBE3ABD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AC8-67DF-4C3D-97B0-58A756F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A5A4-AE16-4269-B19B-18224A5E91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8814-6CF4-4E7C-97A9-24A7896176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renciamento Qualidade em Processos de Softw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010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dade de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. Alexandre Vasconce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niel João Melo Brasil (djm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niel Menezes Cardoso (dmc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lipe Augusto Pereira (fa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B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38280" y="1887480"/>
            <a:ext cx="7749720" cy="4133520"/>
            <a:chOff x="638280" y="1887480"/>
            <a:chExt cx="7749720" cy="4133520"/>
          </a:xfrm>
        </p:grpSpPr>
        <p:cxnSp>
          <p:nvCxnSpPr>
            <p:cNvPr id="105" name="_s18438"/>
            <p:cNvCxnSpPr>
              <a:stCxn id="106" idx="3"/>
              <a:endCxn id="107" idx="2"/>
            </p:cNvCxnSpPr>
            <p:nvPr/>
          </p:nvCxnSpPr>
          <p:spPr>
            <a:xfrm flipV="1">
              <a:off x="3959280" y="2373120"/>
              <a:ext cx="554040" cy="340488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08" name="_s18439"/>
            <p:cNvCxnSpPr>
              <a:stCxn id="109" idx="1"/>
              <a:endCxn id="107" idx="2"/>
            </p:cNvCxnSpPr>
            <p:nvPr/>
          </p:nvCxnSpPr>
          <p:spPr>
            <a:xfrm rot="10800000">
              <a:off x="4512600" y="2372760"/>
              <a:ext cx="554040" cy="26762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0" name="_s18440"/>
            <p:cNvCxnSpPr>
              <a:stCxn id="111" idx="3"/>
              <a:endCxn id="107" idx="2"/>
            </p:cNvCxnSpPr>
            <p:nvPr/>
          </p:nvCxnSpPr>
          <p:spPr>
            <a:xfrm flipV="1">
              <a:off x="3959280" y="2373120"/>
              <a:ext cx="554040" cy="26762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2" name="_s18441"/>
            <p:cNvCxnSpPr>
              <a:stCxn id="113" idx="1"/>
              <a:endCxn id="107" idx="2"/>
            </p:cNvCxnSpPr>
            <p:nvPr/>
          </p:nvCxnSpPr>
          <p:spPr>
            <a:xfrm rot="10800000">
              <a:off x="4512600" y="2372760"/>
              <a:ext cx="554040" cy="1945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8442"/>
            <p:cNvCxnSpPr>
              <a:stCxn id="115" idx="3"/>
              <a:endCxn id="107" idx="2"/>
            </p:cNvCxnSpPr>
            <p:nvPr/>
          </p:nvCxnSpPr>
          <p:spPr>
            <a:xfrm flipV="1">
              <a:off x="3959280" y="2372760"/>
              <a:ext cx="554040" cy="1945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8443"/>
            <p:cNvCxnSpPr>
              <a:stCxn id="117" idx="1"/>
              <a:endCxn id="107" idx="2"/>
            </p:cNvCxnSpPr>
            <p:nvPr/>
          </p:nvCxnSpPr>
          <p:spPr>
            <a:xfrm rot="10800000">
              <a:off x="4512600" y="2372760"/>
              <a:ext cx="554040" cy="1216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8" name="_s18444"/>
            <p:cNvCxnSpPr>
              <a:stCxn id="119" idx="3"/>
              <a:endCxn id="107" idx="2"/>
            </p:cNvCxnSpPr>
            <p:nvPr/>
          </p:nvCxnSpPr>
          <p:spPr>
            <a:xfrm flipV="1">
              <a:off x="3959280" y="2372760"/>
              <a:ext cx="554040" cy="12164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0" name="_s18445"/>
            <p:cNvCxnSpPr>
              <a:stCxn id="121" idx="1"/>
              <a:endCxn id="107" idx="2"/>
            </p:cNvCxnSpPr>
            <p:nvPr/>
          </p:nvCxnSpPr>
          <p:spPr>
            <a:xfrm rot="10800000">
              <a:off x="4512600" y="2372760"/>
              <a:ext cx="554040" cy="487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22" name="_s18446"/>
            <p:cNvCxnSpPr>
              <a:stCxn id="123" idx="3"/>
              <a:endCxn id="107" idx="2"/>
            </p:cNvCxnSpPr>
            <p:nvPr/>
          </p:nvCxnSpPr>
          <p:spPr>
            <a:xfrm flipV="1">
              <a:off x="3959280" y="2372760"/>
              <a:ext cx="554040" cy="4878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07" name="_s18447"/>
            <p:cNvSpPr/>
            <p:nvPr/>
          </p:nvSpPr>
          <p:spPr>
            <a:xfrm>
              <a:off x="2851920" y="1887480"/>
              <a:ext cx="3322440" cy="48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9999"/>
              </a:solidFill>
              <a:miter/>
            </a:ln>
            <a:effectLst>
              <a:outerShdw dist="63504" dir="19383909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erenciamento de Proj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8448"/>
            <p:cNvSpPr/>
            <p:nvPr/>
          </p:nvSpPr>
          <p:spPr>
            <a:xfrm>
              <a:off x="638280" y="2616840"/>
              <a:ext cx="3321000" cy="4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rência de Integr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8449"/>
            <p:cNvSpPr/>
            <p:nvPr/>
          </p:nvSpPr>
          <p:spPr>
            <a:xfrm>
              <a:off x="5067000" y="2616840"/>
              <a:ext cx="3321000" cy="4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rência de Esco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8450"/>
            <p:cNvSpPr/>
            <p:nvPr/>
          </p:nvSpPr>
          <p:spPr>
            <a:xfrm>
              <a:off x="638280" y="3346200"/>
              <a:ext cx="3321000" cy="4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rência de Tem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8451"/>
            <p:cNvSpPr/>
            <p:nvPr/>
          </p:nvSpPr>
          <p:spPr>
            <a:xfrm>
              <a:off x="5067000" y="3346200"/>
              <a:ext cx="3321000" cy="4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rência de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8452"/>
            <p:cNvSpPr/>
            <p:nvPr/>
          </p:nvSpPr>
          <p:spPr>
            <a:xfrm>
              <a:off x="638280" y="4075920"/>
              <a:ext cx="3321000" cy="4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rência de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8453"/>
            <p:cNvSpPr/>
            <p:nvPr/>
          </p:nvSpPr>
          <p:spPr>
            <a:xfrm>
              <a:off x="5067000" y="4075920"/>
              <a:ext cx="3321000" cy="4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rência de Recursos Human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8454"/>
            <p:cNvSpPr/>
            <p:nvPr/>
          </p:nvSpPr>
          <p:spPr>
            <a:xfrm>
              <a:off x="638280" y="4805280"/>
              <a:ext cx="3321000" cy="4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rência de Comunic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8455"/>
            <p:cNvSpPr/>
            <p:nvPr/>
          </p:nvSpPr>
          <p:spPr>
            <a:xfrm>
              <a:off x="5067000" y="4805280"/>
              <a:ext cx="3321000" cy="4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rência de Ris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8456"/>
            <p:cNvSpPr/>
            <p:nvPr/>
          </p:nvSpPr>
          <p:spPr>
            <a:xfrm>
              <a:off x="638280" y="5535000"/>
              <a:ext cx="3321000" cy="4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71785" dir="189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erência de Aquisiçõ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B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761080" cy="31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B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30200" y="2033640"/>
            <a:ext cx="63374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BO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rência de Qual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neja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rant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MBOK - Planejamento da Qual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rad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líticas de Qualidad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claração de Escop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scrição do Produ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drões e Regulamentaçõ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aídas de outros process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écnicas/Ferrament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nálise de custo/benefíci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enchmark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lowchart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jeto de Experiment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aíd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lano de Gerência da Qualidad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finições Operacionai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hecklist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MBOK - Garantia da Qual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tra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no de Gerência da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ultados da Medição do Controle da Qualida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ições Operaciona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écnicas/Ferram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eri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ditorias de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í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lhoria da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MBOK - Controle da Qual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trad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sultados do Trabalh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lano de Gerência da Qualidad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finições Operacionai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hecklist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écnicas/Ferrament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nspeçã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Gráficos de Contro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iagrama de Paret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mostragem Estatístic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Flowchart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nálise de Tendênci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aíd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elhoria da Qualidad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cisões de Aceitaçã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trabalh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hecklists Concluíd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justes no Processo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no R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66978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no R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lidade com foco no produto fin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co nos tes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dade dos processos sem relevâ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tribuída por todo o cic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lidade dos Artefa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no R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tefatos relacionados a Qual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no de Garantia de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so de Desenvolvi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istro de Revis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tei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l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e Norm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MBO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lidade no R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lidade no X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lus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úv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no R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tamento dos problemas identificados nas revis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unicação dos resultados das revis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lização das avaliaç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sência de aprovação de desvios do padr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no R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deria se tornar uma nova discipl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ibilidade para a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lização de ações de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tamento sistemático das não-conform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vos papé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erente de Qualida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ngenheiro de Qualida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no R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rente de Qualid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ção da função de qual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 conhe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stão de processos e de pesso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organiz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os e padrões de qualida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genheiro de Qualid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eja atividades de qualidade e constrói cron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 conhe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enharia de softwa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os, padrões e técnicas de SQ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ção entre amb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no R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253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é-requisitos para a nova discipl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ição de objetivos e políticas de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cedimentos, padrões e métricas de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pecificação de papéis e da função da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tação do perfil para os profissiona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eina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e de custo das atividades de qualida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no X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 que é X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át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e parte da equi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go do planej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s pequen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es de aceit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jetos si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es si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áf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envolvimento direcionado por tes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ator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ção contín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priedade coletiva do códi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dronização de codific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no X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arantia da Qual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rantia de Qualidade x Controle de Qua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rantia de qualidade (do produto) no X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rantia de qualidade (do processo) no X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úvi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39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5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Informatiz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opularização do uso de softw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Grande variedade de sotfw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ocess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odelos e norm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uitivamente su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rv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cendent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periênc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ada no Produ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nções e err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ada no Usuá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pectativ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ada na Manufa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ficiência no process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ada no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eço x Cu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dade de 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Grau no qual um sistema, componente ou processo atende as expectativas do usuário.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Qualidade de Produto (ISO/IEE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uncionalidade, Confiabilidade, Usabilidade, Eficiência, Manutenibilidade, Portabi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revalece sobre a do proces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Qualidade de 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usto e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rantia da Qualidade de Softwar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finição do processo de softw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Garantia da Qualid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Responsabilidade de to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Revis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uditorias, Inspeções, Walkthroughs, Revisões Técnicas e Revisões Gerencia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es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e Nor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O 9000-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ru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ividades do ciclo de v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ividades de supor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e Nor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M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ic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Ad-ho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peti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rramentas básic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fini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ocesso documentado e padroniz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erencia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etas exatas de qualid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m otimiz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volu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e Nor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rangência entre CMM e ISO 900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lhoria dos proces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ação da capacidade dos proces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1:54:07Z</dcterms:created>
  <dc:creator>Felipe Pereira</dc:creator>
  <dc:description/>
  <dc:language>en-US</dc:language>
  <cp:lastModifiedBy>Felipe Pereira</cp:lastModifiedBy>
  <dcterms:modified xsi:type="dcterms:W3CDTF">2004-09-14T13:17:40Z</dcterms:modified>
  <cp:revision>51</cp:revision>
  <dc:subject/>
  <dc:title>Gerenciamento Qualidade em Processos de Software</dc:title>
</cp:coreProperties>
</file>